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FF3-F969-41F8-8170-4DFA065B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573C-310E-4154-A8B0-A156EB8F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E2DF-C977-4A19-99BF-F2149551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E395-E53F-41E3-B04D-87248104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FBDE-1C0D-41FB-AB1E-7C114420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7133-972A-451C-84DA-D08395DC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A240-27BA-4BE9-8182-EF7EABCE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CCC8-E70E-4B09-8AF6-81A56757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E72F-B743-4051-AB1F-E2172845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EDDD-38A1-4486-8F6F-64D9646B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196C-1B13-4019-8E83-222BD825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E21A-0DE5-4323-ADD3-4A1F4F06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CC0F-EC24-4D2B-BF16-AC32748A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C3FB-3C63-4A8A-9C91-A53DD03B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59E3-33AF-4298-B474-3F6FEE62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6A23-4D31-4EA7-BBD6-06A76BE2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B4C9-E262-412C-80A0-19A4726C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29E8-6203-4F63-B39E-85BE98F9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3D52-7135-4A69-BB27-0F0F5E62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5EDF-FB4F-4A32-9C29-D38CEFBE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4476-1C4C-4BEF-8323-E60C2115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66A1-FEAF-4B80-8F1E-1B1BBA09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1374-E16E-4BB6-AAFD-67D1318B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30DE-D4D7-4187-B4A3-24971F85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6666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12A1-855E-40B6-B4CA-E60AE490B2A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880" y="6629040"/>
            <a:ext cx="3810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29040" y="6552720"/>
            <a:ext cx="213372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E20A-B635-42A6-9CD0-C5241D3EFB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FCA6-9720-4F23-9AB1-B9571A2AA48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8794-0402-4B72-AB3E-F43925689B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24480" cy="20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ndy"/>
              </a:rPr>
              <a:t>Maslow vs. Willa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Andy"/>
              </a:rPr>
              <a:t>Pyramid Schema</a:t>
            </a:r>
            <a:endParaRPr b="1" lang="en-US" sz="50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ndy"/>
              </a:rPr>
              <a:t>Eric Willard, CTO</a:t>
            </a:r>
            <a:endParaRPr b="0" lang="en-US" sz="4000" spc="-1" strike="noStrike">
              <a:solidFill>
                <a:srgbClr val="ffffff"/>
              </a:solidFill>
              <a:latin typeface="Andy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ndy"/>
              </a:rPr>
              <a:t>January 23, 2009</a:t>
            </a:r>
            <a:endParaRPr b="0" lang="en-US" sz="2500" spc="-1" strike="noStrike">
              <a:solidFill>
                <a:srgbClr val="ffffff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457200" y="6629400"/>
            <a:ext cx="21337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B7FF-6479-430A-B5F6-D2A861750E75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666880" y="6629400"/>
            <a:ext cx="3810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629400" y="6553080"/>
            <a:ext cx="213372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BA3A-8CE7-4915-A13B-3C1095A9E23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92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75" name="Line 3"/>
          <p:cNvSpPr/>
          <p:nvPr/>
        </p:nvSpPr>
        <p:spPr>
          <a:xfrm flipH="1">
            <a:off x="1523520" y="1828800"/>
            <a:ext cx="297180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4495680" y="1828800"/>
            <a:ext cx="289584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"/>
          <p:cNvSpPr/>
          <p:nvPr/>
        </p:nvSpPr>
        <p:spPr>
          <a:xfrm flipH="1">
            <a:off x="1523520" y="586728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1905120" y="53341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362320" y="472428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3276720" y="34290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0"/>
          <p:cNvSpPr/>
          <p:nvPr/>
        </p:nvSpPr>
        <p:spPr>
          <a:xfrm>
            <a:off x="2819520" y="41148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2514600" y="5486400"/>
            <a:ext cx="411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ing &amp;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2895480" y="49528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Planning &amp;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3124080" y="4343400"/>
            <a:ext cx="274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s &amp;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3352680" y="36576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&amp;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5"/>
          <p:cNvSpPr/>
          <p:nvPr/>
        </p:nvSpPr>
        <p:spPr>
          <a:xfrm>
            <a:off x="3809880" y="60199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6"/>
          <p:cNvSpPr/>
          <p:nvPr/>
        </p:nvSpPr>
        <p:spPr>
          <a:xfrm rot="3395400">
            <a:off x="5121360" y="3730320"/>
            <a:ext cx="2808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7"/>
          <p:cNvSpPr/>
          <p:nvPr/>
        </p:nvSpPr>
        <p:spPr>
          <a:xfrm rot="18418800">
            <a:off x="488880" y="3394800"/>
            <a:ext cx="40626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rofes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3809880" y="28954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dy"/>
              </a:rPr>
              <a:t>Technology Drivers</a:t>
            </a: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Instructional Initiatives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Administrative Needs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Technology Plan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Leadership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Community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Equity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Money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457200" y="6629400"/>
            <a:ext cx="21337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96D0-6019-4D5A-A513-F989636ED81A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2666880" y="6629400"/>
            <a:ext cx="3810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629400" y="6553080"/>
            <a:ext cx="213372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2D4B-E59F-4EFB-A8BF-FE6EE4324CF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dy"/>
              </a:rPr>
              <a:t>When Technology Drives Instruction</a:t>
            </a:r>
            <a:endParaRPr b="1" lang="en-US" sz="4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When a district lacks the drivers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When the infrastructure isn’t ready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ndy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LAN/WAN</a:t>
            </a:r>
            <a:endParaRPr b="0" lang="en-US" sz="2800" spc="-1" strike="noStrike">
              <a:solidFill>
                <a:srgbClr val="ffffff"/>
              </a:solidFill>
              <a:latin typeface="Andy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Equipment</a:t>
            </a:r>
            <a:endParaRPr b="0" lang="en-US" sz="2800" spc="-1" strike="noStrike">
              <a:solidFill>
                <a:srgbClr val="ffffff"/>
              </a:solidFill>
              <a:latin typeface="Andy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When teachers aren’t technology literate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457200" y="6629400"/>
            <a:ext cx="21337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505E-4400-48BB-81AC-8CE98100F0A3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2666880" y="6629400"/>
            <a:ext cx="3810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629400" y="6553080"/>
            <a:ext cx="213372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15AB-9A92-4259-A786-06633A1F877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dy"/>
              </a:rPr>
              <a:t>Maslow’s Pyramid</a:t>
            </a: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pic>
        <p:nvPicPr>
          <p:cNvPr id="98" name="Picture 4" descr="maslow 1"/>
          <p:cNvPicPr/>
          <p:nvPr/>
        </p:nvPicPr>
        <p:blipFill>
          <a:blip r:embed="rId1"/>
          <a:stretch/>
        </p:blipFill>
        <p:spPr>
          <a:xfrm>
            <a:off x="1828800" y="1981080"/>
            <a:ext cx="540072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457200" y="6629400"/>
            <a:ext cx="21337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9C64-6FFE-42B1-A1ED-96781FE06F20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2666880" y="6629400"/>
            <a:ext cx="3810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629400" y="6553080"/>
            <a:ext cx="213372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9D07-50F5-44E0-8D4D-7EB28A9D5E0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dy"/>
              </a:rPr>
              <a:t>Don’t Let this Happen!</a:t>
            </a: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03" name="Line 3"/>
          <p:cNvSpPr/>
          <p:nvPr/>
        </p:nvSpPr>
        <p:spPr>
          <a:xfrm flipH="1">
            <a:off x="1523520" y="1828800"/>
            <a:ext cx="297180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495680" y="1828800"/>
            <a:ext cx="289584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 flipH="1">
            <a:off x="1523520" y="586728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1905120" y="53341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2362320" y="472428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3276720" y="34290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2819520" y="41148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 rot="3395400">
            <a:off x="5121360" y="3730320"/>
            <a:ext cx="2808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4"/>
          <p:cNvSpPr/>
          <p:nvPr/>
        </p:nvSpPr>
        <p:spPr>
          <a:xfrm>
            <a:off x="3809880" y="60199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629400"/>
            <a:ext cx="21337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D67D-DBAF-4FC8-BC68-1CC96FFE6EDD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2666880" y="6629400"/>
            <a:ext cx="3810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629400" y="6553080"/>
            <a:ext cx="213372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F4C9-BCCA-46FB-A39E-65091F9B9F7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92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16" name="Line 3"/>
          <p:cNvSpPr/>
          <p:nvPr/>
        </p:nvSpPr>
        <p:spPr>
          <a:xfrm flipH="1">
            <a:off x="1523520" y="1828800"/>
            <a:ext cx="297180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4495680" y="1828800"/>
            <a:ext cx="289584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 flipH="1">
            <a:off x="1523520" y="586728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1905120" y="53341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2362320" y="472428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3276720" y="34290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9"/>
          <p:cNvSpPr/>
          <p:nvPr/>
        </p:nvSpPr>
        <p:spPr>
          <a:xfrm>
            <a:off x="2819520" y="41148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2514600" y="5486400"/>
            <a:ext cx="411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ing &amp;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 rot="3395400">
            <a:off x="5121360" y="3730320"/>
            <a:ext cx="2808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3809880" y="60199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457200" y="6629400"/>
            <a:ext cx="21337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FB2D-0F05-4A2F-ADAC-0983A526FB77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666880" y="6629400"/>
            <a:ext cx="3810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629400" y="6553080"/>
            <a:ext cx="213372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3B53-BDFF-41DD-BD60-36173A3EBC5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 flipH="1">
            <a:off x="1523520" y="1828800"/>
            <a:ext cx="297180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4495680" y="1828800"/>
            <a:ext cx="289584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 flipH="1">
            <a:off x="1523520" y="586728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1905120" y="53341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362320" y="472428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3276720" y="34290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2819520" y="41148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2514600" y="5486400"/>
            <a:ext cx="411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ing &amp;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2895480" y="49528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Planning &amp;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3809880" y="60199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457200" y="6629400"/>
            <a:ext cx="21337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D627-5036-4548-BEE3-3A17ADAA9A76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666880" y="6629400"/>
            <a:ext cx="3810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629400" y="6553080"/>
            <a:ext cx="213372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42E5-9373-4143-8520-8F120CB75D6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92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44" name="Line 3"/>
          <p:cNvSpPr/>
          <p:nvPr/>
        </p:nvSpPr>
        <p:spPr>
          <a:xfrm flipH="1">
            <a:off x="1523520" y="1828800"/>
            <a:ext cx="297180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4495680" y="1828800"/>
            <a:ext cx="289584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 flipH="1">
            <a:off x="1523520" y="586728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"/>
          <p:cNvSpPr/>
          <p:nvPr/>
        </p:nvSpPr>
        <p:spPr>
          <a:xfrm>
            <a:off x="1905120" y="53341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2362320" y="472428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9"/>
          <p:cNvSpPr/>
          <p:nvPr/>
        </p:nvSpPr>
        <p:spPr>
          <a:xfrm>
            <a:off x="3276720" y="34290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2819520" y="41148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2514600" y="5486400"/>
            <a:ext cx="411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ing &amp;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2895480" y="49528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Planning &amp;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3124080" y="4343400"/>
            <a:ext cx="274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s &amp;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3809880" y="60199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457200" y="6629400"/>
            <a:ext cx="21337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4B15-C58E-4EC6-A0AE-73D6D3751056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666880" y="6629400"/>
            <a:ext cx="3810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629400" y="6553080"/>
            <a:ext cx="213372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32F0-8384-497B-A9A6-47545D6C2E3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92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59" name="Line 3"/>
          <p:cNvSpPr/>
          <p:nvPr/>
        </p:nvSpPr>
        <p:spPr>
          <a:xfrm flipH="1">
            <a:off x="1523520" y="1828800"/>
            <a:ext cx="297180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4495680" y="1828800"/>
            <a:ext cx="289584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 flipH="1">
            <a:off x="1523520" y="586728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1905120" y="53341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2362320" y="472428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3276720" y="34290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2819520" y="41148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2514600" y="5486400"/>
            <a:ext cx="411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ing &amp;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2895480" y="49528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Planning &amp;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3124080" y="4343400"/>
            <a:ext cx="274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s &amp;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3352680" y="36576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&amp;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9"/>
          <p:cNvSpPr/>
          <p:nvPr/>
        </p:nvSpPr>
        <p:spPr>
          <a:xfrm>
            <a:off x="3809880" y="60199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9:52:32Z</dcterms:created>
  <dc:creator>Nan Shastry</dc:creator>
  <dc:description/>
  <dc:language>en-US</dc:language>
  <cp:lastModifiedBy>BHS</cp:lastModifiedBy>
  <dcterms:modified xsi:type="dcterms:W3CDTF">2010-06-25T18:59:40Z</dcterms:modified>
  <cp:revision>18</cp:revision>
  <dc:subject/>
  <dc:title>Beveled Slide Style</dc:title>
</cp:coreProperties>
</file>